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7336-18F0-4ACF-89EA-22D9B797A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2EB2-27C5-40CE-B47F-5B69642C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C3AB3-A42C-4756-9AF1-31836C7B2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C4487-FBF3-4B5D-B213-B314F05CF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8041E-A45F-43A3-BCF5-E3EB8D19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07DE-B908-46EC-90E0-836BECA6A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784F-C7DF-45A9-86FD-A1B0A63F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8614-0CA7-45EE-A313-648ECD7E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181C-AE8A-49CD-8A2D-6F0F248D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F2D0-C2C9-4D88-8623-54DA7471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D564-3387-4846-BD41-B4E04415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327E-176D-4431-835C-E13600949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27E4-4203-46A1-B3F7-D232176F41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00000" y="1916280"/>
            <a:ext cx="583272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3366ff"/>
                </a:solidFill>
                <a:latin typeface="华文新魏"/>
              </a:rPr>
              <a:t>苏轼诗词与其思想研究</a:t>
            </a:r>
            <a:endParaRPr b="1" lang="en-US" sz="1800" spc="1" strike="noStrike">
              <a:ln w="9360">
                <a:solidFill>
                  <a:srgbClr val="ffffff"/>
                </a:solidFill>
                <a:miter/>
              </a:ln>
              <a:solidFill>
                <a:srgbClr val="3366ff"/>
              </a:solidFill>
              <a:latin typeface="华文新魏"/>
              <a:ea typeface="华文新魏"/>
            </a:endParaRPr>
          </a:p>
        </p:txBody>
      </p:sp>
      <p:sp>
        <p:nvSpPr>
          <p:cNvPr id="42" name=""/>
          <p:cNvSpPr/>
          <p:nvPr/>
        </p:nvSpPr>
        <p:spPr>
          <a:xfrm>
            <a:off x="3214800" y="5261040"/>
            <a:ext cx="2952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高二</a:t>
            </a:r>
            <a:r>
              <a:rPr b="1" lang="zh-CN" sz="2500" spc="-1" strike="noStrike">
                <a:solidFill>
                  <a:srgbClr val="000000"/>
                </a:solidFill>
                <a:latin typeface="宋体"/>
              </a:rPr>
              <a:t>7</a:t>
            </a:r>
            <a:r>
              <a:rPr b="1" lang="zh-CN" sz="2500" spc="-1" strike="noStrike">
                <a:solidFill>
                  <a:srgbClr val="000000"/>
                </a:solidFill>
                <a:latin typeface="宋体"/>
              </a:rPr>
              <a:t>班  刘熙琳</a:t>
            </a:r>
            <a:endParaRPr b="0" lang="en-US" sz="2500" spc="-1" strike="noStrike">
              <a:solidFill>
                <a:srgbClr val="000000"/>
              </a:solidFill>
              <a:latin typeface="Arial"/>
            </a:endParaRPr>
          </a:p>
        </p:txBody>
      </p:sp>
      <p:sp>
        <p:nvSpPr>
          <p:cNvPr id="43" name=""/>
          <p:cNvSpPr/>
          <p:nvPr/>
        </p:nvSpPr>
        <p:spPr>
          <a:xfrm>
            <a:off x="3203640" y="4653000"/>
            <a:ext cx="2952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指导老师  陈梦洁</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11280" y="1125360"/>
            <a:ext cx="5545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苏轼（</a:t>
            </a:r>
            <a:r>
              <a:rPr b="1" lang="zh-CN" sz="2000" spc="-1" strike="noStrike">
                <a:solidFill>
                  <a:srgbClr val="000000"/>
                </a:solidFill>
                <a:latin typeface="楷体_GB2312"/>
                <a:ea typeface="楷体_GB2312"/>
              </a:rPr>
              <a:t>1037</a:t>
            </a:r>
            <a:r>
              <a:rPr b="1" lang="zh-CN" sz="2000" spc="-1" strike="noStrike">
                <a:solidFill>
                  <a:srgbClr val="000000"/>
                </a:solidFill>
                <a:latin typeface="楷体_GB2312"/>
                <a:ea typeface="楷体_GB2312"/>
              </a:rPr>
              <a:t>年—</a:t>
            </a:r>
            <a:r>
              <a:rPr b="1" lang="zh-CN" sz="2000" spc="-1" strike="noStrike">
                <a:solidFill>
                  <a:srgbClr val="000000"/>
                </a:solidFill>
                <a:latin typeface="楷体_GB2312"/>
                <a:ea typeface="楷体_GB2312"/>
              </a:rPr>
              <a:t>1101</a:t>
            </a:r>
            <a:r>
              <a:rPr b="1" lang="zh-CN" sz="2000" spc="-1" strike="noStrike">
                <a:solidFill>
                  <a:srgbClr val="000000"/>
                </a:solidFill>
                <a:latin typeface="楷体_GB2312"/>
                <a:ea typeface="楷体_GB2312"/>
              </a:rPr>
              <a:t>年），字子瞻，又字和仲，号铁冠道人、东坡居士，世称苏东坡、苏仙。眉州眉山人，北宋文学家、书法家、画家，其散文著述宏富，为“唐宋八大家”之一。嘉祐二年（</a:t>
            </a:r>
            <a:r>
              <a:rPr b="1" lang="zh-CN" sz="2000" spc="-1" strike="noStrike">
                <a:solidFill>
                  <a:srgbClr val="000000"/>
                </a:solidFill>
                <a:latin typeface="楷体_GB2312"/>
                <a:ea typeface="楷体_GB2312"/>
              </a:rPr>
              <a:t>1057</a:t>
            </a:r>
            <a:r>
              <a:rPr b="1" lang="zh-CN" sz="2000" spc="-1" strike="noStrike">
                <a:solidFill>
                  <a:srgbClr val="000000"/>
                </a:solidFill>
                <a:latin typeface="楷体_GB2312"/>
                <a:ea typeface="楷体_GB2312"/>
              </a:rPr>
              <a:t>年），苏轼进士及第。宋神宗时曾在凤翔、杭州、密州、徐州、湖州等地任职。元丰三年（</a:t>
            </a:r>
            <a:r>
              <a:rPr b="1" lang="zh-CN" sz="2000" spc="-1" strike="noStrike">
                <a:solidFill>
                  <a:srgbClr val="000000"/>
                </a:solidFill>
                <a:latin typeface="楷体_GB2312"/>
                <a:ea typeface="楷体_GB2312"/>
              </a:rPr>
              <a:t>1080</a:t>
            </a:r>
            <a:r>
              <a:rPr b="1" lang="zh-CN" sz="2000" spc="-1" strike="noStrike">
                <a:solidFill>
                  <a:srgbClr val="000000"/>
                </a:solidFill>
                <a:latin typeface="楷体_GB2312"/>
                <a:ea typeface="楷体_GB2312"/>
              </a:rPr>
              <a:t>年），因“乌台诗案”被贬为黄州团练副使。宋哲宗即位后，曾任翰林学士、侍读学士、礼部尚书等职，并出知杭州、颍州、扬州、定州等地，晚年因新党执政被贬惠州、儋州。宋徽宗时获大赦北还，途中于常州病逝。宋高宗时追赠太师，谥号“文忠”。</a:t>
            </a:r>
            <a:endParaRPr b="0" lang="en-US" sz="2000" spc="-1" strike="noStrike">
              <a:solidFill>
                <a:srgbClr val="000000"/>
              </a:solidFill>
              <a:latin typeface="Arial"/>
            </a:endParaRPr>
          </a:p>
        </p:txBody>
      </p:sp>
      <p:pic>
        <p:nvPicPr>
          <p:cNvPr id="45" name="图片 9" descr=""/>
          <p:cNvPicPr/>
          <p:nvPr/>
        </p:nvPicPr>
        <p:blipFill>
          <a:blip r:embed="rId2"/>
          <a:srcRect l="7326" t="9680" r="12303" b="10502"/>
          <a:stretch/>
        </p:blipFill>
        <p:spPr>
          <a:xfrm>
            <a:off x="6300720" y="1052640"/>
            <a:ext cx="2665440" cy="4319640"/>
          </a:xfrm>
          <a:prstGeom prst="rect">
            <a:avLst/>
          </a:prstGeom>
          <a:ln w="0">
            <a:noFill/>
          </a:ln>
        </p:spPr>
      </p:pic>
      <p:sp>
        <p:nvSpPr>
          <p:cNvPr id="46" name=""/>
          <p:cNvSpPr/>
          <p:nvPr/>
        </p:nvSpPr>
        <p:spPr>
          <a:xfrm>
            <a:off x="1348200" y="549360"/>
            <a:ext cx="5328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黑体"/>
              </a:rPr>
              <a:t>（一）苏轼生平</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11280" y="1268280"/>
            <a:ext cx="648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宋代是中国古典文学发展的一个转折期，无论是传统的诗文还是新起的词，小说戏曲都得到了全面的发展，在这其中，宋诗在经历了唐诗繁荣的难以逾越的巅峰之后，并未停滞不前，而是在学习唐诗的基础上继续开拓创新，开辟了诗歌新的发展道路，形成了自身独特的特点。宋代诗坛上的许多大家都在做着努力，而在两宋诗坛中影响最大，成就最高的当属北宋的苏轼和南宋的陆游。 </a:t>
            </a:r>
            <a:endParaRPr b="0" lang="en-US" sz="2000" spc="-1" strike="noStrike">
              <a:solidFill>
                <a:srgbClr val="000000"/>
              </a:solidFill>
              <a:latin typeface="Arial"/>
            </a:endParaRPr>
          </a:p>
        </p:txBody>
      </p:sp>
      <p:sp>
        <p:nvSpPr>
          <p:cNvPr id="48" name=""/>
          <p:cNvSpPr/>
          <p:nvPr/>
        </p:nvSpPr>
        <p:spPr>
          <a:xfrm>
            <a:off x="1231560" y="539640"/>
            <a:ext cx="251856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黑体"/>
              </a:rPr>
              <a:t>（二）苏轼诗词所处文学背景</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11280" y="1197000"/>
            <a:ext cx="66247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苏轼诗词大致可以分为</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个阶段，每一个阶段都有着不同的代表作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1</a:t>
            </a:r>
            <a:r>
              <a:rPr b="1" lang="zh-CN" sz="2000" spc="-1" strike="noStrike">
                <a:solidFill>
                  <a:srgbClr val="ff0000"/>
                </a:solidFill>
                <a:latin typeface="楷体_GB2312"/>
                <a:ea typeface="楷体_GB2312"/>
              </a:rPr>
              <a:t>、雄鹰出谷欲高飞</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识遍天下字，读尽人间书。”</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这是苏轼年少时的豪言壮语，此时的苏轼对外面的世界充满幻想，想要做振翅高飞的雄鹰，而不是山间的麻雀。这时的苏轼，信心满满，想要有一番作为。</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2</a:t>
            </a:r>
            <a:r>
              <a:rPr b="1" lang="zh-CN" sz="2000" spc="-1" strike="noStrike">
                <a:solidFill>
                  <a:srgbClr val="ff0000"/>
                </a:solidFill>
                <a:latin typeface="楷体_GB2312"/>
                <a:ea typeface="楷体_GB2312"/>
              </a:rPr>
              <a:t>、初入官场显身手</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刚被太阳收拾去，又叫明月送将来。”</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此时的苏轼刚入官场不久，他不同意王安石的变法，这句诗里“太阳收拾去”，其实可以理解为苏轼想要把那些自己眼中的乱臣给清理了，虽然历经波折，但是苏轼还是信心满满的。 </a:t>
            </a:r>
            <a:endParaRPr b="0" lang="en-US" sz="2000" spc="-1" strike="noStrike">
              <a:solidFill>
                <a:srgbClr val="000000"/>
              </a:solidFill>
              <a:latin typeface="Arial"/>
            </a:endParaRPr>
          </a:p>
        </p:txBody>
      </p:sp>
      <p:sp>
        <p:nvSpPr>
          <p:cNvPr id="50" name=""/>
          <p:cNvSpPr/>
          <p:nvPr/>
        </p:nvSpPr>
        <p:spPr>
          <a:xfrm>
            <a:off x="1348200" y="539640"/>
            <a:ext cx="28692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黑体"/>
              </a:rPr>
              <a:t>（三）苏轼诗词思想及其发展变化</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11280" y="692280"/>
            <a:ext cx="662472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乌台诗案惹风波</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梦绕云山心似鹿，魂飞汤火命如鸡。”</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元丰二年，苏轼由于诗词入狱。“魂飞汤火命如鸡”，苏轼是有些可怜自己的，一颗拳拳报国之心，却是没有用处，到头来恐怕要客死京城。好在当时苏轼已经有一定的影响力，最终宋神宗释放了苏轼。</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4</a:t>
            </a:r>
            <a:r>
              <a:rPr b="1" lang="zh-CN" sz="2000" spc="-1" strike="noStrike">
                <a:solidFill>
                  <a:srgbClr val="ff0000"/>
                </a:solidFill>
                <a:latin typeface="楷体_GB2312"/>
                <a:ea typeface="楷体_GB2312"/>
              </a:rPr>
              <a:t>、一路遭贬到天涯</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人生到处知何似，应似飞鸿踏雪泥。”</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乌台诗案结束后，朝廷并没有还苏轼自由身，苏轼自请外放，离开了京城。离开京城后，苏轼看到王安石变法对百姓的生活是有帮助的，而此时政坛上占了上风的是司马光等守旧派，不支持变法，苏轼又树立了不少政敌。经历了这么多，苏轼自己的立场也是反复变化，最终苏轼明白了“人生到处知何似，应似飞鸿踏雪泥。”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11280" y="1125360"/>
            <a:ext cx="6624720" cy="88668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一是寓物托讽，借古讽今。</a:t>
            </a:r>
            <a:r>
              <a:rPr b="1" lang="zh-CN" sz="2000" spc="-1" strike="noStrike">
                <a:solidFill>
                  <a:srgbClr val="000000"/>
                </a:solidFill>
                <a:latin typeface="楷体_GB2312"/>
                <a:ea typeface="楷体_GB2312"/>
              </a:rPr>
              <a:t>苏轼比较重视诗歌的社会作用，表达了一个文人对人民疾苦的关注和痛苦的同情，以及对黑暗政治的揭露与批判，如《荔枝叹》，苏轼借杨贵妃爱吃荔枝所引发的劳民伤财的史实，讽刺当朝统治者的骄奢淫逸是建立在对百姓的压迫和奴役之上的。</a:t>
            </a:r>
            <a:endParaRPr b="0" lang="en-US" sz="20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二是行云流水，触处生春。</a:t>
            </a:r>
            <a:r>
              <a:rPr b="1" lang="zh-CN" sz="2000" spc="-1" strike="noStrike">
                <a:solidFill>
                  <a:srgbClr val="000000"/>
                </a:solidFill>
                <a:latin typeface="楷体_GB2312"/>
                <a:ea typeface="楷体_GB2312"/>
              </a:rPr>
              <a:t>苏轼创作了很多咏物写景诗，这些诗歌意境优美，诗意盎然，极具有情致，如《惠崇春江晚景二首》中其一：</a:t>
            </a:r>
            <a:r>
              <a:rPr b="1" lang="zh-CN" sz="2000" spc="-1" strike="noStrike">
                <a:solidFill>
                  <a:srgbClr val="0066ff"/>
                </a:solidFill>
                <a:latin typeface="楷体_GB2312"/>
                <a:ea typeface="楷体_GB2312"/>
              </a:rPr>
              <a:t>竹外桃花三两枝，春江水暖鸭先知，蒌蒿满地芦芽短，正是河豚欲上时</a:t>
            </a:r>
            <a:r>
              <a:rPr b="1" lang="zh-CN" sz="2000" spc="-1" strike="noStrike">
                <a:solidFill>
                  <a:srgbClr val="000000"/>
                </a:solidFill>
                <a:latin typeface="楷体_GB2312"/>
                <a:ea typeface="楷体_GB2312"/>
              </a:rPr>
              <a:t>。苏轼在此既没有离开原画面的景象，又创造了新的意象和意境，从另一个视角向读者传达了世人对盎然春意的一种富于审美情趣的新鲜感受。</a:t>
            </a:r>
            <a:endParaRPr b="0" lang="en-US" sz="2000" spc="-1" strike="noStrike">
              <a:solidFill>
                <a:srgbClr val="000000"/>
              </a:solidFill>
              <a:latin typeface="Arial"/>
            </a:endParaRPr>
          </a:p>
        </p:txBody>
      </p:sp>
      <p:sp>
        <p:nvSpPr>
          <p:cNvPr id="53" name=""/>
          <p:cNvSpPr/>
          <p:nvPr/>
        </p:nvSpPr>
        <p:spPr>
          <a:xfrm>
            <a:off x="1172880" y="539640"/>
            <a:ext cx="23432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黑体"/>
              </a:rPr>
              <a:t>（四）苏轼诗词的文学特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444600"/>
            <a:ext cx="6624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三是以哲入诗，理趣横生。</a:t>
            </a:r>
            <a:r>
              <a:rPr b="1" lang="zh-CN" sz="2000" spc="-1" strike="noStrike">
                <a:solidFill>
                  <a:srgbClr val="000000"/>
                </a:solidFill>
                <a:latin typeface="楷体_GB2312"/>
                <a:ea typeface="楷体_GB2312"/>
              </a:rPr>
              <a:t>苏轼在写诗时，善于将一些哲理性的感受融入诗中，对世人起到了一种启发和教育的作用。如《饮湖上初晴后雨》其二：</a:t>
            </a:r>
            <a:r>
              <a:rPr b="1" lang="zh-CN" sz="2000" spc="-1" strike="noStrike">
                <a:solidFill>
                  <a:srgbClr val="0066ff"/>
                </a:solidFill>
                <a:latin typeface="楷体_GB2312"/>
                <a:ea typeface="楷体_GB2312"/>
              </a:rPr>
              <a:t>“水光潋滟晴方好，山色空蒙雨亦奇，欲把西湖比西子，浓妆艳抹总相宜”</a:t>
            </a:r>
            <a:r>
              <a:rPr b="1" lang="zh-CN" sz="2000" spc="-1" strike="noStrike">
                <a:solidFill>
                  <a:srgbClr val="000000"/>
                </a:solidFill>
                <a:latin typeface="楷体_GB2312"/>
                <a:ea typeface="楷体_GB2312"/>
              </a:rPr>
              <a:t>，苏轼的此类诗歌总是以平淡的语言，深入浅出的引发读者哲理性的思考。</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ff0000"/>
                </a:solidFill>
                <a:latin typeface="楷体_GB2312"/>
                <a:ea typeface="楷体_GB2312"/>
              </a:rPr>
              <a:t>四是以文字为诗，以议论为诗，以才学为诗。</a:t>
            </a:r>
            <a:r>
              <a:rPr b="1" lang="zh-CN" sz="2000" spc="-1" strike="noStrike">
                <a:solidFill>
                  <a:srgbClr val="000000"/>
                </a:solidFill>
                <a:latin typeface="楷体_GB2312"/>
                <a:ea typeface="楷体_GB2312"/>
              </a:rPr>
              <a:t>苏轼诗虽也表现了宋诗的散文化，议论化的特点，然而在进行诗歌创作时，苏轼却克服了宋诗完全说理而忽视诗情的弊病，从而不至于使诗歌变得枯燥无趣，例如《海市》先讲只是心中的幻影而已，然而为聊慰心神，却又想真正看到，没想到竟能真实见到</a:t>
            </a:r>
            <a:r>
              <a:rPr b="1" lang="zh-CN" sz="2000" spc="-1" strike="noStrike">
                <a:solidFill>
                  <a:srgbClr val="0066ff"/>
                </a:solidFill>
                <a:latin typeface="楷体_GB2312"/>
                <a:ea typeface="楷体_GB2312"/>
              </a:rPr>
              <a:t>“重楼翠阜出霜晓”</a:t>
            </a:r>
            <a:r>
              <a:rPr b="1" lang="zh-CN" sz="2000" spc="-1" strike="noStrike">
                <a:solidFill>
                  <a:srgbClr val="000000"/>
                </a:solidFill>
                <a:latin typeface="楷体_GB2312"/>
                <a:ea typeface="楷体_GB2312"/>
              </a:rPr>
              <a:t>这种异事。苏轼发议论，并非是简单的说理，而必是将情、理、景巧妙地融合在一起，看起来毫无违和之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444600"/>
            <a:ext cx="6624720" cy="191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小结：</a:t>
            </a:r>
            <a:endParaRPr b="0" lang="en-US" sz="23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苏轼的诗歌创作并不以一家为宗，而是取李、杜、韩、白之长，最终形成自身独特的艺术风格。在宋代诗坛上，苏轼作为一个集大成者的身份，承载着宋诗的典范，成为宋诗诗坛乃至我国整个古代整个诗坛上永远不朽的恒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中华优秀传统文化传承发展的主要内容有核心思想理念、中华传统美德、中华人文精神三个方面。而在苏轼身上，正蕴含着令无数读者吟咏不尽的传统文化内涵。苏轼的魅力也是传统文化的魅力。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0-10T01:39:45Z</dcterms:created>
  <dc:creator>微软用户</dc:creator>
  <dc:description/>
  <dc:language>en-US</dc:language>
  <cp:lastModifiedBy>微软用户</cp:lastModifiedBy>
  <dcterms:modified xsi:type="dcterms:W3CDTF">2023-10-10T02:36:21Z</dcterms:modified>
  <cp:revision>3</cp:revision>
  <dc:subject/>
  <dc:title>幻灯片 1</dc:title>
</cp:coreProperties>
</file>