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36C-760D-4A9E-BD12-5195D04B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79E1-117C-4F4E-A02D-B1D1A581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30F-E237-4079-9DDA-8ECCEC96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C75-36C9-4D50-A3B5-40EAA003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3AF-1E7F-4967-B516-6BCD8192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CBD-710E-4849-AD94-A4DDA625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A85-DF47-4CCC-BAF4-D7040A64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BF8-BF01-48B0-BE16-B4C0CB05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1F3-B61C-4F93-9AC5-577741FD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27F-E85F-48ED-8A0A-A707F7EB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149-8E3C-4FC2-95E4-FB309BAE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B41-77CA-4A96-9251-8745AFD3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4598-029E-4A6A-83E9-96C83217CF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较不同国别不同时代作家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人道主义问题上的不同取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太宰治、阿尔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缪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陀思妥耶夫斯基为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上旬，由市教育局组织、学校下发布置进行以综合性实践为主的研究性学习活动。在实践活动的选题上，徐修河老师老师提出“以比较不同国别及社会体系下人道主义发展方向”为方向的研究性学习活动，部分同学根据自己的兴趣爱好，参考自身条件，报名参加了这个实践活动，在徐修河老师的组织下，我们组形成了以刘睿轩为课题组主持人，王瑛杰、吴思衡、刘李汉唐、庄炜煜、朱洪广为课题组组员的实践活动小组。在徐老师的指导下，全体小组成员共同讨论，最终确定实践活动的课题名称为“试比较不同国别、不同时代作家在人道主义问题上的不同取舍——以太宰治、阿尔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缪、陀思妥耶夫斯基为例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于太宰治的基本资料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0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，太宰治出生，津岛家是津轻地区首屈一指的地主富豪之家。太宰治出生之后，是津岛家那一辈里面的第六个男孩，上有五哥四姐，其中两个哥哥不幸夭折，只剩下文治、英治、圭治三人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，三月，父亲去世，享年五十三岁。四月，至青森县立青森中学就读，寄宿该市寺町的远亲丰田家檐下。中学期间，开始创作小说、杂文、戏剧，对泉镜花、芥川龙之介的文学相当倾倒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，再次以《如是我闻》震惊文坛，并着手创作《人间失格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o Longer Hum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》。完成了《第二手札》的一部分。此时，随着肺结核的恶化，身体极度虚弱，时常吐血。六月十三日深夜，与山崎富荣一齐在玉川上水投水自尽。三十九岁生日当天，遗体被发现。二十一日，丰岛与志雄、井伏鳟二主持至其家中举行告别仪式，葬于三鹰町禅林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于阿尔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缪的资料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阿尔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缪生于阿尔及利亚的蒙多维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ondov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。加缪父亲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大战时阵亡后，他随母亲移居阿尔及尔贫民区外祖母家，生活极为艰难。 阿尔贝由做佣人的母亲抚养长大，从小就在阿尔及利亚的贝尔库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elcou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的平民区尝尽了生活艰辛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在乡村小学里，一位名叫路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热尔曼（加缪对他的知遇之恩一直念念不忘，在他的诺贝尔奖答谢辞中提到了这位老师）的教师发现了加缪的天分，极力劝说加缪的家人让他继续上学。于是，加缪参加了助学金考试，并得以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进入阿尔及尔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ugeau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学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加缪搭朋友的顺风车从普罗旺斯去巴黎，途中发生车祸，加缪当场死亡，年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 。在他随身携带的提包里，还有一部没有完成的长篇小说手稿《第一个人》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3880" y="1255680"/>
            <a:ext cx="7886880" cy="33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于陀思妥耶夫斯基资料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出生于莫斯科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）放弃工作，开始文学创作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）发表第一部中篇小说《穷人》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4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）发表中篇小说《双重人格》（又名《孪生兄弟》《性格迥异的同貌人》《双重人格――高略德金先生的奇遇》）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4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）发表中篇小说《女房东》；发表《彼得堡纪事》；参加彼得拉舍夫斯基小组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4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）发表中篇小说《白夜》《脆弱的心》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4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）发表未完成作品《涅陀契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涅兹凡诺娃》（又名《涅朵奇卡》）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4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）由于政治原因被叛死刑，临刑前改判为四年苦役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）开始在西伯利亚亚鄂木斯克服苦役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5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）开始在克谢末巴拉金斯克当列兵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7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8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）发表长篇小说《卡拉马佐夫兄弟》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8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）发行《卡拉马佐夫兄弟》单行本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8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）《作家日记》连载结束；在圣彼得堡逝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对于幸福的定义或多或少都始于对习惯法的更改与加入，而阿尔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缪和太宰治为我们提供了一个崭新的视角：我们自己定义的幸福才是自我的幸福。幸福不应是他人对于自我的评判与褒贬，而应该是自我的肯定与价值在社会熔炉体系中的展现。自我在人道主义的不断发展中走向伟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比这三篇文章，我们不难看出，“罪”与“罚”对于这三位作家来说都是生活的必经之路。我们无时无刻不处在责任（等同于“罪”）与人性（等同于“罚”）的纠缠中。或许我们都是拉斯克尼科夫，对着“罪”与“罚”的重量，人道主义才有了公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于自我自行内化的魂灵在无知的力量中迈步他想异化、同化、重构，这是这个世界的运转原则。自我在反抗这世界的一切，已有的歌声或当在自我的卑微中。人们在可供赞颂处自惭形秽。我们高歌着没有被异化的部分，抛弃掉被同化的部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我的分离与异化的苟且构成了人道主义的僵化片段。似乎一切都停留在“不得人道”的悲哀中。但是，对比其背景，我们不难看出个人主义一自我主义在向着高昂的人道发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结束语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无论对于人道主义的诠释多么迥异，我们无法否认这三位伟大的作家在文学历史上散发出的光芒。陀思妥耶夫斯基第一次把视角投向了个人所认识中、意识到、正在所经历的世界与其所生活、所“存在”的世界的相异，他在人道主义上选择了“道”；太宰治把视角投向了自我意识中的个人与他人描述的个人的鸿沟，他在人道主义上选择了“主义”；而加缪把视角投向了个人的“存在”本身，他在人道主义上选择了“人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14T02:03:56Z</dcterms:created>
  <dc:creator>Administrator</dc:creator>
  <dc:description/>
  <dc:language>en-US</dc:language>
  <cp:lastModifiedBy>无敌龙骑士</cp:lastModifiedBy>
  <dcterms:modified xsi:type="dcterms:W3CDTF">2023-03-14T02:03:56Z</dcterms:modified>
  <cp:revision>1</cp:revision>
  <dc:subject/>
  <dc:title>比较不同国别不同时代作家在人道主义问题上的不同取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130EFA3AC73492A98EBBD3DBBCA2153</vt:lpwstr>
  </property>
  <property fmtid="{D5CDD505-2E9C-101B-9397-08002B2CF9AE}" pid="3" name="KSOProductBuildVer">
    <vt:lpwstr>2052-11.1.0.13703</vt:lpwstr>
  </property>
</Properties>
</file>