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13.jpeg" ContentType="image/jpeg"/>
  <Override PartName="/ppt/media/image24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5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E22F-1EC7-4434-846A-B6DA5C211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9F7C-83D0-42EE-ADD1-5045564D9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55B7B9-462E-48FF-BFAA-78B782DDF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B9F030-7CA4-4B3E-8991-97E21E975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676C22-AD26-4FA0-A4D3-B215BA77F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547AC5-6329-4FFF-A312-73D9DF074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B46753-9EE1-4599-9182-CFEC6C259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7DA146-3F9B-4A2F-A8A3-17FB4D2E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154CA7-4B23-4875-87BC-8D6DCA73F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4B0A71-E6B2-4B37-826E-6678A0DB8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DB8DC3-2D15-42B8-824D-AC4157163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346E6A-F88C-4D8D-9F4E-9E907A6D2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EEDD-0905-45EF-81DD-C5447549D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37BCCE-C25E-4027-B963-72CE9F553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6FCD47-405E-4830-AC07-CA4389D32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78421E-A89C-4CD0-9D4B-CA55B8DE8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B75A86-761B-4847-BC12-D07DF7429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DF2B5F-0963-4748-B6F5-C23D29D52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105BA0-B6CA-46B6-AEF1-1AAC7EDD2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059F7A-F16E-4425-BA9F-C3973363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7208A6-27AC-4740-8008-235D5E5B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8F9A2D-28EC-4C26-92A7-C1866AEE5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29209C-8911-4B4E-BECC-9696807BB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B4E6-2400-4429-AF1D-3AC958675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4C4721-83F5-41BE-BFBD-1A6A81D60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903AA9-2817-441B-9558-B08A47C96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4AEA75-6245-44F3-98E1-3013413B7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6A06F6-1FAA-4734-8511-F86B8130C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7B5BBF-3B57-4C13-9B9B-AAB656D60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3855E1-D79A-4BC4-96C0-78FBC74E9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67A8FE-FC7F-4F52-A595-7229A12EF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36F825-13E8-4C1F-80F0-CA82557A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B2C16B-9729-428D-82E4-25CAC4895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1E62A3-E66A-47C4-823F-3D815502F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D2B04-F265-4922-909A-1AD0F1EAE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D54164-5AA0-4280-8185-10CB4BEE2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AC0DDA-3E9B-41C0-94C2-4F42CC952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9F5841-D476-416C-B352-1D3354185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5C14CE-4521-44D5-9086-9D4CD232C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714230-24DB-4C08-BB82-196639363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855B13-92F3-41AA-B8EF-64DBBE5C0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F92F9E-57F8-4CD2-A39A-960398817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056AC9-ABE6-4361-8F4B-88C3A7752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CC5089-7A7C-4D22-B225-DA945260A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743300-78DB-480F-93F2-9AEC49B20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4EEBA-1571-4850-818B-CCA67EA91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47AD95-2F6D-4D11-B7CA-ADFAC4F2B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81FBD9-D727-4B84-B8DB-D04604809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FE98DE-E17C-4365-B30B-8B172D8BE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412D4F-A19A-478F-A9C5-C0ED16B7D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9D18FE-63C7-444B-9297-9C71249CA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E4815D-6B8B-410E-87E5-DDEAFDAF3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AC1A7D-C103-4D59-96E4-3FE522A23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802E30-2168-42DA-A95D-2B4C8F438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F1AB5D-5D1B-45C2-A1E0-3C2F784ED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6AFA79-6B0D-4304-B4C3-30E16E6DA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8B9CB-356A-4976-ADDD-08B04E87F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B5D212-D029-4F91-91D0-1E0E9BDB7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520707-A786-42F0-90B0-14A5A3F6A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007EC3-188B-45AD-B0BB-29764F04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45B1C0-29B7-414A-85BE-A6118E7A6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4CA924-FBF7-4BB0-A7B0-864463F54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7B696A-360D-4F89-9C19-664FFFDE2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25B346-007D-44F5-ABA5-A8863E777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63BB8E-3E2E-4176-BE5E-9AB18AF82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95FF7B-3EEC-4010-BD6A-24FA9EF04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6BFF3D-E632-45B7-BD0F-8B595B4D2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665B2-C35D-49EB-BA88-A02CE113F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9EAC61-5AFD-4042-8C65-24772BD28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D75BEC-DFF3-4F88-B82C-EB3842B5B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9D2DD7-722B-4CAF-8938-2740C53A5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C620D0-FEC8-4DB5-BB5B-5180CAFB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05F97B-F0B1-4206-905D-40FEEDC0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DE3769-D29D-4E09-955D-57EB0932B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71E91A-A6C0-44F3-B411-F1BF5CEA0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0A411F-68CF-475F-94EA-D3B612749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2DF018-638C-4382-9447-EFDE3D4BD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1B0A6-F1C5-4C3A-9EB8-5596E4123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3F4D8-6776-4FBB-9B04-D42E94FED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1A7D5-F4F8-4904-AF48-13BB85914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D206-FC48-4108-834C-ED4FC5885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7FE71-7CFA-4553-A3CF-55FC99A4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43D20-F7C4-4058-B5A7-C85ED7AFC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98474-A369-46D3-8575-E265AE603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88283-69ED-4663-8AF2-4BFDE0860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3FBE1-2041-4917-86D0-0E6C55123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A06B5-83D1-4BE6-ACFD-8EB0CE2B7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69766-F7DC-462D-A2DC-D2867C172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D4622-D3C1-442C-885A-93F1B2483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8BFB8-1BCD-489E-9263-23E53562B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2627B-2E26-41E1-B7A0-8D771ADE4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80BA-268E-4BB4-894E-3F7A7DB6A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24748-7749-4417-80F3-8F88AB417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46E18-827F-484F-83F6-5B3E9F12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E4BDD-8F3B-4791-A6E8-8C72E2AF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0A666-FF8C-4749-83EC-0BEF875C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03AC4-ECA1-4623-86B8-A986A0F4E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533E8-3B76-485B-B5A7-597AE342B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4BF50-6E97-466F-8329-499F8CBF0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582B1-2177-4897-8AC7-0B0D9A3E0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CC95E-6949-44D0-B68E-25C6B6B81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73A0B-61FB-4D84-B499-514BCFFF9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A31A-3282-45FB-8F93-27AACE6C1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2580F-8DE2-4C07-9621-3C551D407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374CA-520D-4E5E-918B-484063BD7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E9C7B-9DD7-4BB4-B828-43F6A8983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5FC51-5CB3-4F3A-8F38-7A0BFE12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65EDA-6D79-4C9E-9787-AC0E02FEF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6565F-863A-4AFE-B4BE-FDAF3CE8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51780-CBA6-45CB-92E8-9CA4A2814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EA3D9-45AA-4F24-99B7-4400F5E44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7A284-C231-46E1-BB22-C24C0C681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8B4158-C152-4D45-96B6-BB812B847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2ECC-8D6B-401D-9A95-57F2E8D5F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5405B7-228E-4BA6-8419-A4959A4B5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C09E7-915C-4774-A915-F77507C1C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B3906-F66E-49DD-9F20-1A5C4E24D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039B8-3DE7-4A5C-8ED1-533C78314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C3C2F3-DE54-4A8E-93AC-533A216E3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DF6FA-F8CC-4FDA-87D3-938CE2C7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B02C89-5DCE-47FE-8241-6EFB9B06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5C034-9D2F-4027-8C91-FBEA1873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0EA5D-AF9A-4D56-8957-367A3D57D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501645-D152-4D22-BC9D-E03326EB1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B567-2723-4E76-AF82-1893C6F9B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935E45-19A1-4955-988A-8297CB84B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6AA9CB-68F6-4DC6-9646-C1AD44E23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140BF3-DCEE-41DE-A4C4-2276E474E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ABA698-FEBA-4CDD-AF7E-B63C92418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C85748-1305-4665-81C6-43B262446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75F5B7-BAA4-4EF2-A178-284EF0E34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5E46D0-0BF1-40CA-87DC-A2724BE2B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15ECC4-68D1-48EC-BFC6-03C01A951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51AA49-60C4-4EE8-9DD6-26441F318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2A2C1D-AA17-4617-8FF1-3AD95578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2696-666E-4BC2-978E-64170321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4AD84E-9F61-4ADD-B0A5-52C48C435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12BC59-488F-45F8-A87F-1120089CB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B90987-61CE-4D5C-A7FF-72D9F7ED1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1FDEAB-1317-400D-B5BC-A5364F746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7E39DD-7711-4BF1-93EC-78F1F2B53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1DCFB1-92CF-4E6C-B10A-D831B1CE5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3D30F5-33E1-42D6-BA4C-AB74FB3A0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A06179-D687-42FE-A7DC-A01D80FDE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7E1F4D-3551-4293-B2F9-5CCB4BC2F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4FC1C2-36EB-4C34-A060-411DFBCF0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B8D5-790F-46AD-BE73-084FD3FA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4A9178-CFD7-435F-91AA-AFDC6247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FDD076-44A5-4005-82B6-0E311FE8D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29B9B4-66FA-48D6-8AB9-FBEB0B674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BB41D0-9343-44E8-9AA0-AEAEC854E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023E39-2B31-4647-BCCB-C9BE40DAE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384AA3-EE87-46CA-8D21-E91FE5359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FE418C-5421-4D78-9724-775DF13C7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E6C685-8594-40DB-8423-0A3CF003C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3675E5-892A-452A-856A-B9D9523FB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710FAC-6DBC-4CA8-89C0-2723456BC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F2D37-52E6-4A5F-B527-3C9559FB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6FBFE3-DE16-4577-AE9A-45EEA011D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6F626A-AEB5-400E-A0F3-F9D3F7976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8A857D-2A48-4C3F-8011-1A5CB026C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947424-365C-423B-B063-DF57F50A7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96A1CB-B0E6-4BAC-9314-F5A68B324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4E8D4C-156B-45BE-828C-468EA0B99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F4792B-CF73-4440-BBA3-B19E37AA5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5CE4E1-977C-4F6F-AB34-F95306A3A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FDFFEA-9825-47B5-9501-F5EAE2722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748562-F2F1-4D2B-BA8B-B39BDC7CC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-20520"/>
            <a:ext cx="9144000" cy="1438200"/>
          </a:xfrm>
          <a:prstGeom prst="rect">
            <a:avLst/>
          </a:prstGeom>
          <a:solidFill>
            <a:srgbClr val="243a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3"/>
          <p:cNvSpPr/>
          <p:nvPr/>
        </p:nvSpPr>
        <p:spPr>
          <a:xfrm>
            <a:off x="15840" y="6742080"/>
            <a:ext cx="9128160" cy="115920"/>
          </a:xfrm>
          <a:prstGeom prst="rect">
            <a:avLst/>
          </a:prstGeom>
          <a:solidFill>
            <a:srgbClr val="c1c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7200" bIns="18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4"/>
          <p:cNvSpPr/>
          <p:nvPr/>
        </p:nvSpPr>
        <p:spPr>
          <a:xfrm>
            <a:off x="15840" y="-9360"/>
            <a:ext cx="9144000" cy="109440"/>
          </a:xfrm>
          <a:prstGeom prst="rect">
            <a:avLst/>
          </a:prstGeom>
          <a:solidFill>
            <a:srgbClr val="c1c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7200" bIns="18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1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华文新魏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A1B5E-55BE-491A-846C-811DBA6897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任意多边形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任意多边形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" name="组合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38" name="任意多边形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39" name="任意多边形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1" name="任意多边形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42" name="任意多边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C8A8B-C82E-42FE-A9B0-31AC3C10293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任意多边形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任意多边形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组合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88" name="任意多边形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89" name="任意多边形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1" name="任意多边形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92" name="任意多边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F45B0-A7CD-485A-A4A0-18284C928AE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单圆角矩形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直角三角形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任意多边形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任意多边形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3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0331E-478F-4FA6-A095-9A1CC0215CB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任意多边形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任意多边形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" name="组合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83" name="任意多边形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84" name="任意多边形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6" name="任意多边形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87" name="任意多边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27C51-A6DB-43AE-875A-812F246DF30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任意多边形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任意多边形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2" name="组合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33" name="任意多边形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634" name="任意多边形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6" name="任意多边形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37" name="任意多边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 type="ftr" idx="4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 type="sldNum" idx="4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6E0D0-71BF-46EB-BB54-07A2B8552BA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10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华文新魏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华文新魏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97E6C-8E20-4C50-9C3A-CE50915445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任意多边形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任意多边形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BE906-5ED5-4D72-ABC7-4196C1E934D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组合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3" name="任意多边形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4" name="任意多边形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" name="任意多边形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7" name="任意多边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任意多边形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任意多边形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组合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38" name="任意多边形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39" name="任意多边形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任意多边形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42" name="任意多边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88428-3EFC-4875-90A5-2E9DDB34D89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任意多边形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任意多边形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组合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88" name="任意多边形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89" name="任意多边形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任意多边形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92" name="任意多边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474C7-0462-4A04-9681-28B8B4958ED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任意多边形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任意多边形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组合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38" name="任意多边形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39" name="任意多边形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" name="任意多边形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42" name="任意多边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A2451-FC02-4110-9CAD-5343AC0DD08F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任意多边形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任意多边形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组合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88" name="任意多边形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89" name="任意多边形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1" name="任意多边形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92" name="任意多边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62F19-1F00-47F3-842A-A3DBE8CA043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任意多边形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任意多边形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组合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38" name="任意多边形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39" name="任意多边形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1" name="任意多边形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42" name="任意多边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62B18-0C03-48F1-B373-A4644D8B87C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任意多边形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任意多边形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组合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88" name="任意多边形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89" name="任意多边形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1" name="任意多边形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92" name="任意多边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9D11A-AD5B-4FB3-8233-C23FA62A25A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0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0" name="标题 1" descr=""/>
          <p:cNvPicPr/>
          <p:nvPr/>
        </p:nvPicPr>
        <p:blipFill>
          <a:blip r:embed="rId1"/>
          <a:stretch/>
        </p:blipFill>
        <p:spPr>
          <a:xfrm>
            <a:off x="603360" y="146160"/>
            <a:ext cx="8169120" cy="1530360"/>
          </a:xfrm>
          <a:prstGeom prst="rect">
            <a:avLst/>
          </a:prstGeom>
          <a:ln w="0">
            <a:noFill/>
          </a:ln>
        </p:spPr>
      </p:pic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1066680" y="1752480"/>
            <a:ext cx="7467840" cy="32004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主持人</a:t>
            </a:r>
            <a:r>
              <a:rPr b="0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: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陆琛琛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组员：郭子琪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指导老师：王丹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学校：徐州市矿大实验学校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17b"/>
                </a:solidFill>
                <a:latin typeface="微软雅黑"/>
                <a:ea typeface="微软雅黑"/>
              </a:rPr>
              <a:t>基本计划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705" name=""/>
          <p:cNvGraphicFramePr/>
          <p:nvPr/>
        </p:nvGraphicFramePr>
        <p:xfrm>
          <a:off x="0" y="1828800"/>
          <a:ext cx="9144000" cy="3995640"/>
        </p:xfrm>
        <a:graphic>
          <a:graphicData uri="http://schemas.openxmlformats.org/drawingml/2006/table">
            <a:tbl>
              <a:tblPr/>
              <a:tblGrid>
                <a:gridCol w="1905120"/>
                <a:gridCol w="3276360"/>
                <a:gridCol w="3962520"/>
              </a:tblGrid>
              <a:tr h="59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566640">
                <a:tc>
                  <a:txBody>
                    <a:bodyPr lIns="68760" rIns="68760" tIns="0" bIns="0" anchor="t">
                      <a:noAutofit/>
                    </a:bodyPr>
                    <a:p>
                      <a:pPr marL="139680" indent="266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阶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558720" indent="266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时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698400" indent="266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事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66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第一阶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24.9.5-2024.9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139680" indent="26676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制定计划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66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第二阶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24.9.8-2024.9.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调查图表及分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67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第三阶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24.9.12-2024.9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查询相关资料进行分类整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566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第四阶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24.9.16-2024.9.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撰写研究报告及结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566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第五阶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24.9.19-2024.9.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经老师审阅论证完成论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228240" y="-152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17b"/>
                </a:solidFill>
                <a:latin typeface="微软雅黑"/>
                <a:ea typeface="微软雅黑"/>
              </a:rPr>
              <a:t>研究方法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网络资料收集法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文献研究法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归纳总结法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708" name="图片 3" descr="微信图片_20240911124248.jpg"/>
          <p:cNvPicPr/>
          <p:nvPr/>
        </p:nvPicPr>
        <p:blipFill>
          <a:blip r:embed="rId1"/>
          <a:stretch/>
        </p:blipFill>
        <p:spPr>
          <a:xfrm>
            <a:off x="5029200" y="1476360"/>
            <a:ext cx="3809880" cy="5381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9" name="图片 1" descr="微信图片_20240911124309.png"/>
          <p:cNvPicPr/>
          <p:nvPr/>
        </p:nvPicPr>
        <p:blipFill>
          <a:blip r:embed="rId1"/>
          <a:stretch/>
        </p:blipFill>
        <p:spPr>
          <a:xfrm>
            <a:off x="304920" y="0"/>
            <a:ext cx="2819160" cy="3048120"/>
          </a:xfrm>
          <a:prstGeom prst="rect">
            <a:avLst/>
          </a:prstGeom>
          <a:ln w="0">
            <a:noFill/>
          </a:ln>
        </p:spPr>
      </p:pic>
      <p:pic>
        <p:nvPicPr>
          <p:cNvPr id="710" name="图片 2" descr="微信图片_20240911124704.jpg"/>
          <p:cNvPicPr/>
          <p:nvPr/>
        </p:nvPicPr>
        <p:blipFill>
          <a:blip r:embed="rId2"/>
          <a:stretch/>
        </p:blipFill>
        <p:spPr>
          <a:xfrm>
            <a:off x="304920" y="3352680"/>
            <a:ext cx="2842920" cy="3505320"/>
          </a:xfrm>
          <a:prstGeom prst="rect">
            <a:avLst/>
          </a:prstGeom>
          <a:ln w="0">
            <a:noFill/>
          </a:ln>
        </p:spPr>
      </p:pic>
      <p:pic>
        <p:nvPicPr>
          <p:cNvPr id="711" name="图片 3" descr="微信图片_20240911124823.jpg"/>
          <p:cNvPicPr/>
          <p:nvPr/>
        </p:nvPicPr>
        <p:blipFill>
          <a:blip r:embed="rId3"/>
          <a:stretch/>
        </p:blipFill>
        <p:spPr>
          <a:xfrm>
            <a:off x="3857760" y="0"/>
            <a:ext cx="5286240" cy="2711520"/>
          </a:xfrm>
          <a:prstGeom prst="rect">
            <a:avLst/>
          </a:prstGeom>
          <a:ln w="0">
            <a:noFill/>
          </a:ln>
        </p:spPr>
      </p:pic>
      <p:pic>
        <p:nvPicPr>
          <p:cNvPr id="712" name="图片 4" descr="微信图片_20240911124915.jpg"/>
          <p:cNvPicPr/>
          <p:nvPr/>
        </p:nvPicPr>
        <p:blipFill>
          <a:blip r:embed="rId4"/>
          <a:stretch/>
        </p:blipFill>
        <p:spPr>
          <a:xfrm>
            <a:off x="5105520" y="3200400"/>
            <a:ext cx="2361960" cy="3276720"/>
          </a:xfrm>
          <a:prstGeom prst="rect">
            <a:avLst/>
          </a:prstGeom>
          <a:ln w="0">
            <a:noFill/>
          </a:ln>
        </p:spPr>
      </p:pic>
      <p:pic>
        <p:nvPicPr>
          <p:cNvPr id="713" name="图片 5" descr="微信图片_20240911124915.jpg"/>
          <p:cNvPicPr/>
          <p:nvPr/>
        </p:nvPicPr>
        <p:blipFill>
          <a:blip r:embed="rId5"/>
          <a:stretch/>
        </p:blipFill>
        <p:spPr>
          <a:xfrm>
            <a:off x="4419720" y="2971800"/>
            <a:ext cx="4495680" cy="3886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17b"/>
                </a:solidFill>
                <a:latin typeface="微软雅黑"/>
                <a:ea typeface="微软雅黑"/>
              </a:rPr>
              <a:t>研究报告总结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0" y="99072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01600" indent="-20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一、通过这次课题研究让学生认识到手机带来的危害。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01600" indent="-20160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妨碍大脑发育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01600" indent="-20160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阻碍身体发展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01600" indent="-20160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引起视力下降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01600" indent="-20160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导致睡眠障碍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01600" indent="-20160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二、帮助学生摆脱过度使用手机的习惯，减少负面影响促进学生全面发展。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01600" indent="-20160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减少控制使用手机时间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01600" indent="-20160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Constantia"/>
                <a:ea typeface="宋体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建立健康的生活习惯。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01600" indent="-20160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引导孩子参与其他活动，转移注意力。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01600" indent="-20160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经常孩子与沟通，增加陪伴时间。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01600" indent="-20160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创造良好的学习环境。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01600" indent="-20160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01600" indent="-20160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三、详细阐述研究过程、方法、和结果，为后续研究提供些许参考。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01600" indent="-20160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网络资料收集法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01600" indent="-20160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文献研究法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01600" indent="-20160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归纳总结法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01600" indent="-20160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01600" indent="-20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01600" indent="-20160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01600" indent="-20160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01600" indent="-201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宋体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01600" indent="-201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6" name="Rectangle 1" descr=""/>
          <p:cNvPicPr/>
          <p:nvPr/>
        </p:nvPicPr>
        <p:blipFill>
          <a:blip r:embed="rId1"/>
          <a:stretch/>
        </p:blipFill>
        <p:spPr>
          <a:xfrm>
            <a:off x="-66600" y="560520"/>
            <a:ext cx="9223200" cy="5956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17b"/>
                </a:solidFill>
                <a:latin typeface="微软雅黑"/>
                <a:ea typeface="微软雅黑"/>
              </a:rPr>
              <a:t>目录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304920" y="20570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研究背景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研究内容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研究意义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研究成果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84" name="图片 4" descr="微信图片_20240911124303.jpg"/>
          <p:cNvPicPr/>
          <p:nvPr/>
        </p:nvPicPr>
        <p:blipFill>
          <a:blip r:embed="rId1"/>
          <a:stretch/>
        </p:blipFill>
        <p:spPr>
          <a:xfrm>
            <a:off x="3962520" y="3200400"/>
            <a:ext cx="4565520" cy="3422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17b"/>
                </a:solidFill>
                <a:latin typeface="微软雅黑"/>
                <a:ea typeface="微软雅黑"/>
              </a:rPr>
              <a:t>研究背景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0" y="13712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nstantia"/>
                <a:ea typeface="宋体"/>
              </a:rPr>
              <a:t>随着科技的飞速发展，智能手机已成为现代社会不可或缺的一部分，它们不仅具备通讯功能，还融入了娱乐、学习、社交等多种用途。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nstantia"/>
                <a:ea typeface="宋体"/>
              </a:rPr>
              <a:t>现代电子产品方便、丰富着我们的生活，然而，对于学生这一特殊群体而言，手机的使用却带来了诸多不可忽视的危害。本课题将探讨手机对学生危害的研究背景，为相关问题的深入研究和有效干预提供基础。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87" name="图片 3" descr="微信图片_20240911124750.jpg"/>
          <p:cNvPicPr/>
          <p:nvPr/>
        </p:nvPicPr>
        <p:blipFill>
          <a:blip r:embed="rId1"/>
          <a:stretch/>
        </p:blipFill>
        <p:spPr>
          <a:xfrm>
            <a:off x="4648320" y="3809880"/>
            <a:ext cx="4495680" cy="2870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17b"/>
                </a:solidFill>
                <a:latin typeface="微软雅黑"/>
                <a:ea typeface="微软雅黑"/>
              </a:rPr>
              <a:t>研究内容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151920" y="1447920"/>
            <a:ext cx="8991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学生对手机依赖度简单自测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学生过度使用手机成瘾原因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学生过度使用手机造成的危害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如何帮助学生摆脱过度使用手机习惯，降低使用频率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90" name="图片 4" descr="微信图片_20240903091939.jpg"/>
          <p:cNvPicPr/>
          <p:nvPr/>
        </p:nvPicPr>
        <p:blipFill>
          <a:blip r:embed="rId1"/>
          <a:stretch/>
        </p:blipFill>
        <p:spPr>
          <a:xfrm>
            <a:off x="3886200" y="3657600"/>
            <a:ext cx="5257800" cy="2957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17b"/>
                </a:solidFill>
                <a:latin typeface="微软雅黑"/>
                <a:ea typeface="微软雅黑"/>
              </a:rPr>
              <a:t>手机依赖症简单自测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692" name=""/>
          <p:cNvGraphicFramePr/>
          <p:nvPr/>
        </p:nvGraphicFramePr>
        <p:xfrm>
          <a:off x="228600" y="990720"/>
          <a:ext cx="8686800" cy="2773080"/>
        </p:xfrm>
        <a:graphic>
          <a:graphicData uri="http://schemas.openxmlformats.org/drawingml/2006/table">
            <a:tbl>
              <a:tblPr/>
              <a:tblGrid>
                <a:gridCol w="4343400"/>
                <a:gridCol w="4343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、视力模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8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、上厕所带手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没有安全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拇指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频繁发信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不喜欢眼神交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头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与亲朋聚会减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方向感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记不住电话号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手机放枕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3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弯腰驼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总听见手机震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4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记忆力减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17b"/>
                </a:solidFill>
                <a:latin typeface="微软雅黑"/>
                <a:ea typeface="微软雅黑"/>
              </a:rPr>
              <a:t>过度使用手机成瘾原因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694" name="内容占位符 3" descr="微信图片_20240911124823.jpg"/>
          <p:cNvPicPr/>
          <p:nvPr/>
        </p:nvPicPr>
        <p:blipFill>
          <a:blip r:embed="rId1"/>
          <a:stretch/>
        </p:blipFill>
        <p:spPr>
          <a:xfrm>
            <a:off x="5181480" y="3048120"/>
            <a:ext cx="3810240" cy="3666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5" name=""/>
          <p:cNvGraphicFramePr/>
          <p:nvPr/>
        </p:nvGraphicFramePr>
        <p:xfrm>
          <a:off x="228600" y="1523880"/>
          <a:ext cx="5029200" cy="3635640"/>
        </p:xfrm>
        <a:graphic>
          <a:graphicData uri="http://schemas.openxmlformats.org/drawingml/2006/table">
            <a:tbl>
              <a:tblPr/>
              <a:tblGrid>
                <a:gridCol w="5029200"/>
              </a:tblGrid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、娱乐性手机成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66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情感性手机成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时尚型手机成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信息性手机成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89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强迫行为性手机成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17b"/>
                </a:solidFill>
                <a:latin typeface="微软雅黑"/>
                <a:ea typeface="微软雅黑"/>
              </a:rPr>
              <a:t>过度使用手机的危害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0" y="114264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妨碍大脑发育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阻碍身体发展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引起视力下降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导致睡眠障碍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98" name="图片 3" descr="微信图片_20240911124708.jpg"/>
          <p:cNvPicPr/>
          <p:nvPr/>
        </p:nvPicPr>
        <p:blipFill>
          <a:blip r:embed="rId1"/>
          <a:stretch/>
        </p:blipFill>
        <p:spPr>
          <a:xfrm>
            <a:off x="3886200" y="2819520"/>
            <a:ext cx="5257800" cy="4038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矩形 2"/>
          <p:cNvSpPr/>
          <p:nvPr/>
        </p:nvSpPr>
        <p:spPr>
          <a:xfrm>
            <a:off x="152280" y="152280"/>
            <a:ext cx="670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如何帮助学生摆脱过度使用手机习惯和使用频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0" name=""/>
          <p:cNvGraphicFramePr/>
          <p:nvPr/>
        </p:nvGraphicFramePr>
        <p:xfrm>
          <a:off x="228600" y="1600200"/>
          <a:ext cx="4876920" cy="3505320"/>
        </p:xfrm>
        <a:graphic>
          <a:graphicData uri="http://schemas.openxmlformats.org/drawingml/2006/table">
            <a:tbl>
              <a:tblPr/>
              <a:tblGrid>
                <a:gridCol w="4876920"/>
              </a:tblGrid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、减少控制使用手机时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建立健康的生活习惯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引导孩子参与其他活动，转移注意力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经常孩子与沟通，增加陪伴时间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创造良好的学习环境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  <p:pic>
        <p:nvPicPr>
          <p:cNvPr id="701" name="图片 4" descr="微信图片_20240911133245.jpg"/>
          <p:cNvPicPr/>
          <p:nvPr/>
        </p:nvPicPr>
        <p:blipFill>
          <a:blip r:embed="rId1"/>
          <a:stretch/>
        </p:blipFill>
        <p:spPr>
          <a:xfrm>
            <a:off x="6477120" y="2438280"/>
            <a:ext cx="2514600" cy="4419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17b"/>
                </a:solidFill>
                <a:latin typeface="微软雅黑"/>
                <a:ea typeface="微软雅黑"/>
              </a:rPr>
              <a:t>研究意义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nstantia"/>
                <a:ea typeface="宋体"/>
              </a:rPr>
              <a:t>学生过度使用手机会对学习和认知能力产生负面影响。从而影响学习效率和思维能力的发展，继而影响学业成绩和未来的职业发展。也会对身体健康有不良影响，导致视力下降，增加颈椎疾病风险，导致缺乏运动，增加肥胖和其他疾病的风险。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nstantia"/>
                <a:ea typeface="宋体"/>
              </a:rPr>
              <a:t>学生过度使用手机会对心里健康产生负面影响。可能会导致孤独、焦虑、抑郁等消极情绪反应，影响人际交往能力，导致社交退缩倾向，影响未来的社会融入能力。手机依赖还可能导致情绪管理能力下降，进一步加剧心里问题。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onstantia"/>
                <a:ea typeface="宋体"/>
              </a:rPr>
              <a:t>研究手机对学生的危害对于制定有效的干预措施、提高教育质量、促进学生身心健康具有重要意义。通过减少学生过度使用手机的行为，可以有效地减少上述负面影响，促进学生的全面发展。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24-10-06T13:18:49Z</dcterms:modified>
  <cp:revision>5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